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BDCA-8CE6-4919-A283-08A59FB9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4AFF-48FD-451D-A220-148FA54B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D83A-F438-40AC-8AA2-261219B0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8B1B-362C-4893-B22E-DB0993E3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EDE2-9CDA-4775-9422-165DD1E8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5DB1-7C42-451A-9019-EFC7F152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5228-D96C-403C-862E-40276223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D8A5-14CA-4D52-A732-A1DFB2C1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E0FC-061A-4D86-AB6A-CB30B807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0216-EC0E-4DFB-9675-187682B6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C1D2-8048-417A-ACC8-B394DBDF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56F3-760F-47A9-9DE3-8516C9AD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D688-6853-4384-8A98-EA4D61670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object that can establish that a crime has been committed or can link a crime and its victim or its perpet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nsic Examination of G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characteris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d &amp; metal ox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” = windows and bot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osilicates” = auto headlights, Pyr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ed” heat/cool many times = auto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minated” plastic sandwich = windsh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– (FBI Datab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/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ity – flota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ve index – p. 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– broken glass fit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il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dial /Concentric fracture p. 1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 – p. 144 #20, 23-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ation of 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with stereoscopic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that match in number and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paint bi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 chromat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until gas is form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yrogram p. 3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paint pi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troscopy – 15-20 elements/p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porized/heated to reveal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wo samples match – probability is 33,000:1 that they came from the same veh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from garments, road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= all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 – The Predator p. 4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. 415 #14,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of S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integrated surface material (natural and artificial) that lies on or near earth’s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100 soil co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have identical conditions (d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/animal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ficial deb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s/r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ity – floa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on of s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intervals 100 yd rad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2 Tbsp from sam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act, individually wra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 – The Silent Witness p. 4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ation of 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– the process of determining a substance’s physical or chemic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– the process of ascertaining whether two or more objects have a common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– properties of evidence that can be attributed to a common source with an extremely high degree of 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– properties of evidence that can be associated only with a group and never with a singl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lculation to determine the overall frequency of occurrence for a particular combination of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26 x 0.85 x 0.02 = 0.0044 = 0.4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990720" y="3124080"/>
          <a:ext cx="7543440" cy="2087640"/>
        </p:xfrm>
        <a:graphic>
          <a:graphicData uri="http://schemas.openxmlformats.org/drawingml/2006/table">
            <a:tbl>
              <a:tblPr/>
              <a:tblGrid>
                <a:gridCol w="3771720"/>
                <a:gridCol w="3771720"/>
              </a:tblGrid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Fa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M 2+2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863640"/>
            <a:ext cx="77724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tomy of H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icle – the scale structure covering the exterior of the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for species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x – the main body of the hair sh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hair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u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ulla – a cellular column running through the center of the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core : “medullary index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s &lt; 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s &gt; 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1626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ation of H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% of “matches” are in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ascertain age/s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 root/follicle contain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full-length hairs from the 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 full-length pubic h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 – p. 382 #2-14 ev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3:37:45Z</dcterms:created>
  <dc:creator>Administrator</dc:creator>
  <dc:description/>
  <dc:language>en-US</dc:language>
  <cp:lastModifiedBy>Administrator</cp:lastModifiedBy>
  <dcterms:modified xsi:type="dcterms:W3CDTF">2009-03-20T14:34:42Z</dcterms:modified>
  <cp:revision>6</cp:revision>
  <dc:subject/>
  <dc:title>Physical Evidence</dc:title>
</cp:coreProperties>
</file>